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9.gif" ContentType="image/gif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AD6-27EE-4FB6-89CC-41B76D83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F29-7C5D-439B-AF3C-D2B5A8D3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446-4B5E-4F0D-856E-5BC3AD17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C03-5481-4437-A32A-01FF24E8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D5C-A54F-43A2-AB61-D1889A4A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7B3-DD22-48E0-96F9-D9AEA24A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E06-6FFF-4F34-B2C3-B6513604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F7A-213D-475A-AD32-D2AB2F60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0D3-346D-4957-8007-40DBC1A1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0CD-3830-4803-A210-2529E46D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883-D923-4354-8D5E-B0A3E6EF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0269-AD61-47A8-A6C2-6A6AAAD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F611-77F0-43EB-BBBB-DEF0C1013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341360"/>
            <a:ext cx="7777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UST&amp;MUSTN'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You must brush your 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960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I have an exam tomorrow,I must study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4360" y="1413000"/>
            <a:ext cx="79912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USTN'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You mustn’t smoke indo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832360" cy="4278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You mustn’t drop litter 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12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You mustn’t speak in the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691200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769080" cy="5184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You mustn’t cheat in the 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You mustn’t sleep 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4800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You mustn’t be late fo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 mustn't argue with your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561080" cy="4969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11280" y="907920"/>
            <a:ext cx="792000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US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You mustn’t play in the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mustn't watch tv so cl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128000" cy="429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 Glitter Gify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526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ÜBRA GÜMÜŞSO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ŞULE NUR AKTA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ÜMMÜHAN YENİ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İMGE YÜ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ÜBEYDE KOÇP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1660680" cy="2102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1873440" cy="2367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72360" y="2349360"/>
            <a:ext cx="1944720" cy="198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751800" y="4149720"/>
            <a:ext cx="2041200" cy="270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035840" y="549360"/>
            <a:ext cx="16048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We must tidy our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1927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000000"/>
                </a:solidFill>
                <a:latin typeface="Comic Sans MS"/>
              </a:rPr>
              <a:t>You must do your homewor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643040"/>
            <a:ext cx="727416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tr-TR" sz="4000" spc="-1" strike="noStrike">
                <a:solidFill>
                  <a:srgbClr val="000000"/>
                </a:solidFill>
                <a:latin typeface="Comic Sans MS"/>
              </a:rPr>
              <a:t>Children must keep their rooms tidy.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84836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000000"/>
                </a:solidFill>
                <a:latin typeface="Comic Sans MS"/>
              </a:rPr>
              <a:t>You are ill, you must see the doctor.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1555920"/>
            <a:ext cx="8064720" cy="4516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000000"/>
                </a:solidFill>
                <a:latin typeface="Comic Sans MS"/>
              </a:rPr>
              <a:t>You must pay the bill before you leave the restaurant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paybill Tips on paying your bill at a restaurant."/>
          <p:cNvPicPr/>
          <p:nvPr/>
        </p:nvPicPr>
        <p:blipFill>
          <a:blip r:embed="rId1"/>
          <a:stretch/>
        </p:blipFill>
        <p:spPr>
          <a:xfrm>
            <a:off x="1042920" y="1628640"/>
            <a:ext cx="6769080" cy="496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I am really tired.I must go home now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63272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0000"/>
                </a:solidFill>
                <a:latin typeface="Comic Sans MS"/>
              </a:rPr>
              <a:t>I must</a:t>
            </a: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 go on a di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7921800" cy="4968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4:21:56Z</dcterms:created>
  <dc:creator>aynet</dc:creator>
  <dc:description/>
  <dc:language>en-US</dc:language>
  <cp:lastModifiedBy>HCD</cp:lastModifiedBy>
  <dcterms:modified xsi:type="dcterms:W3CDTF">2011-04-03T13:05:43Z</dcterms:modified>
  <cp:revision>8</cp:revision>
  <dc:subject/>
  <dc:title>Slayt 1</dc:title>
</cp:coreProperties>
</file>